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95D8-E324-4896-ACD9-C6D647E4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D68-3825-47C9-83DB-9911A651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10D-7EA6-47EB-86A6-2F185709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CE5-56F5-4B48-A7F9-E7D6771E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23B0-ED8B-4AFE-8FAD-B93E7D17B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5328-76F8-41FD-A644-C5335756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2A85-A84B-491E-9B1A-DF812974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8C8-DC09-4182-8C1D-BE63B244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D257-1506-41B8-A2DB-F96CDFFC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1C8-1C81-4975-A70F-AA9EFAF7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9D6D-9B50-499B-ADFD-BDF61D3C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BA0-0914-4C0C-83DD-8FEF1885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FFA6-7AD9-4234-B052-0F88479A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64FB-5EB5-43C4-9E1F-125250E2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BEF5-B7BA-4598-9462-EAF388AF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97FD-FAF2-4D8A-865E-9C7DA808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92E6-068C-469E-92DB-E121EAF4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6D0-08E7-4161-A448-D005AEBC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4FF-C8DD-4211-8B3C-B3FF9DD9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48F6-4725-4F53-8B77-A0C18CE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D26-BEA3-4778-BAB7-6F779CB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D02-D16A-41A4-A7FE-B2AB1C22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908-34CF-42F6-A4FE-115F1521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881-95C8-4DCD-914C-374221FB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6D2A-1844-4599-B7D5-E15D1EC8E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F9A4-7548-4F7E-8DAF-4629288B9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Final Project Presentat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apt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de/Outside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DA Form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Steps: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into 2 groups with equal number of final project groups in each (A/B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tables in a “circle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A  stays at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B moves a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Proces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A goes first with 3 minutes to share thei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B listens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B comments on partner A’s project for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 A listens sil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sation between the 2 partners/groups for 2-3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roles so Partner B shares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opics to Discus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ESENT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/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-out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N Strategie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ses/CE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/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ilities fo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0240" y="12193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LISTEN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irm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ands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y address lenses/CE’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and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2:52:06Z</dcterms:created>
  <dc:creator>pmsd pmsd</dc:creator>
  <dc:description/>
  <dc:language>en-US</dc:language>
  <cp:lastModifiedBy>Jessica Jacobs</cp:lastModifiedBy>
  <dcterms:modified xsi:type="dcterms:W3CDTF">2009-08-11T23:44:13Z</dcterms:modified>
  <cp:revision>5</cp:revision>
  <dc:subject/>
  <dc:title>Final Project Presentations</dc:title>
</cp:coreProperties>
</file>